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8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E0A7-C0F8-41E8-9E12-8814DAEE9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665E-312D-4366-9233-07390B529F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202E-C3D6-4E5A-AD26-894C78EDDAD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DF3C-B6FE-475B-9BB1-8AC95F4302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3385-C7F6-47C5-8652-2A7EA137A6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D679-82B5-47D2-9A7F-AD4DEF4F91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BFEB-D293-4A80-A2EB-2547714637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87B9-DF3A-46A3-BD56-83DA057BFFD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EA2C-14F4-4FA9-B6B6-DBFAC1CE76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A432-6097-4B2D-8EEB-4CF529C574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4B44-E1C6-4416-97E5-F76AA08B37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A03D-ABF6-417A-9D79-54FAAC19BC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3303-7B82-43A2-B8B9-15F23639AA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E02C-53F9-44C1-ADFF-4E0431BA908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F723-CEAA-4B65-AE89-B40F2A8B1A0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DD2D-B90C-4F04-A30C-E7BEEAE67F6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B898-BE0B-4396-8E83-9F29A8D4FA5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8D74-E929-4C6D-AA6B-1F66D841BE6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ABAE-0CDB-47DD-BC17-6D96C0B92A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971F-737E-4CD5-9C56-E365083169E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9E9B-C2B9-4C38-8D36-23F0F360A60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C32B-7D11-4AAC-8232-60C2F720B9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FBBA-F23C-429C-899F-F013961BBEB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CF2C-5AC9-4918-959D-21117578C4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AE6D-26A0-46C2-8458-C557322DCA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7306-0838-4C91-B04F-992A05CCFC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A276-91C7-4F85-9733-DC1114C6C5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08A6-D867-4B23-8ED1-FBB3E0237B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FE90-1C55-486D-B46D-5D26C1ED1DB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7594-9A06-44D1-BBAD-7CD3FA2189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1D27-693A-4B2B-9C0C-07671DFAF1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FE7D-3C76-4B0C-9B69-7B225686723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5BBF-CC80-4B12-86C5-147319BB48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BC0E-059A-453E-BACC-1B76780F40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148D-FA02-474D-86CA-C0FAD2143C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E665-AF45-41C7-899F-6D62BB5316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9B49-7A41-4F8D-99DB-116E9282212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F394-1824-485E-A8EC-D5C7BBF9C4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62C3-4735-4C53-95FA-1076E5E058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5737-6719-4147-AB73-474B8242949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B0BD-EB39-4977-B872-61B811259C8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26E5-BCCA-4038-B7A0-6E9965B029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1D11-BC66-4E9D-96E7-5C9390056E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0AFB-CF18-415D-9AE2-56337753FB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BE48-E82E-4561-BBB6-62270BE76E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5E8E-75E2-4012-A40D-718D836B810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E240-8CE3-4B98-BB89-7EC134AC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8BE6-0930-4EE8-BED8-4EE7B9C0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A2E-AB08-4F35-8257-0FC77418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29C5-62FE-448E-A661-73C6045A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A730-E115-41C2-990D-1127C744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8D0D-739B-4C34-91CA-90852633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C925-D518-42EE-937A-69D74BB3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A7A5-F158-4847-919D-BB11F093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03C8-ED0E-4EBC-84DA-ACA10ECB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5378-A477-424E-943B-106F7D43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93D9-12CC-42A2-9987-62BA8C73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8546-E073-46CA-B2FE-D0327034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6CD8-8EBA-48D4-8E75-7E11B0AD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4F1D-C48D-43C5-9B56-4D61FF3F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E472-BD8B-46BC-AC28-9E894678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114C-91CD-472E-A403-70DF69F9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7ABE-B33A-4783-AE50-8CE7BD60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FA94-568E-4CB5-BF2C-744AD6C8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4068-3840-49B8-ABA7-42935012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6C1F-A2AE-48A6-A28D-E3FD7B82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C49B-F291-44D0-AF1C-EA7EB7FC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C169-6964-493C-B65B-7FC8BFD4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0C96-0B89-445A-8BC5-9EE97621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0205-BD20-4A18-913A-3C6C14CB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359D-C00C-48B9-9BDE-67E833736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95CC-0FE5-443B-B969-72581102B9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Chapter 24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From Nixon to Carter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Amanda Sawyer, Danielle Floyd,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ia Franco &amp; Jacob Gar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QU3$T10NZ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the FAP stand f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Southern Strate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the FAP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étente Poli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ident Nix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U.S. security advisor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nry Kissing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believed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s should pursue policies and make alliances based on national interests, not on views of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xon and Kissinger creat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tente based on balance of power among 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mp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air rel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th communist powers such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na and Soviet Un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393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ident Nix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76920" y="1066680"/>
            <a:ext cx="393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ry Kiss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nixon"/>
          <p:cNvPicPr/>
          <p:nvPr/>
        </p:nvPicPr>
        <p:blipFill>
          <a:blip r:embed="rId1"/>
          <a:stretch/>
        </p:blipFill>
        <p:spPr>
          <a:xfrm>
            <a:off x="380880" y="1905120"/>
            <a:ext cx="3980160" cy="4114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nwo-kissinger"/>
          <p:cNvPicPr/>
          <p:nvPr/>
        </p:nvPicPr>
        <p:blipFill>
          <a:blip r:embed="rId2"/>
          <a:stretch/>
        </p:blipFill>
        <p:spPr>
          <a:xfrm>
            <a:off x="4876920" y="1905120"/>
            <a:ext cx="3384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ublic of Chi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want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lit China and Soviet Un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ord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pressure Soviet Union to make negotiations on limiting nuclear a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pril 1971, U.S. ended trade embargo with Chi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February 1972, Nixon went to China and agreed to resume tra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L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xon sign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gic Arms Limitation Tal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greement with Soviet Un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the number of missile defense systems in each count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ould be one in the capital city and one in the main missile launching cen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id not limit long-range missiles or bombs with multiple independently targeted warheads, did not prohibit development of nuclear weapon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om Kippur Wa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gypt and Syria attacked Israel to get back land the lost in the 1967 six day w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ssume peace making role, Nixon and Kissinger withheld and granted supplies to Isra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rotest aid to Israel, Arab oil producing countries stopped shipments to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fixed relations with Arabs and made new cease fire deal October 26, 1973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sting Pe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gypt and Israel signed a peace agreement September 197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gypt recognized Israel, and Israel gave up part of Sinai peninsul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promised military aid to both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xon and Kissinger encouraged Soviet Union to arm radical Arab f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nd Given Back to Egyp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Picture 4" descr="slide4"/>
          <p:cNvPicPr/>
          <p:nvPr/>
        </p:nvPicPr>
        <p:blipFill>
          <a:blip r:embed="rId1"/>
          <a:stretch/>
        </p:blipFill>
        <p:spPr>
          <a:xfrm>
            <a:off x="533520" y="1523880"/>
            <a:ext cx="80769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tin Ameri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worlds economy grew, Latin America prosper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0 U.S. had $35 billion invested in Latin American Industri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in America borrowed money from U.S. banks in order to finance their economic grow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oil prices went up, they grew deeper in deb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.S.-Latin America Rela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xico welcomed American investments and wanted to be able to keep crossing the border for job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id not want to make trade agreements with the U.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tried to create their own industries so they could separate from Americas hold on their economic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merican Divisio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end of the 1960’s American societ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ded into hostile ca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ecade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 &amp; social change ripped the nation ap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rvatives vs. Libe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ers vs.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tes vs. bl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ld vs. you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lende in Pow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vador Allende ran for presidency of Chile in 197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xon and Kissinger feared with Allende as president Chile would ally with Soviet Union and Cuba, and communism would spr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Allende could become presid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xon had him assassinated in 197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915080" y="1904760"/>
            <a:ext cx="393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vador Allen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salvador%20allende%20color"/>
          <p:cNvPicPr/>
          <p:nvPr/>
        </p:nvPicPr>
        <p:blipFill>
          <a:blip r:embed="rId1"/>
          <a:stretch/>
        </p:blipFill>
        <p:spPr>
          <a:xfrm>
            <a:off x="380880" y="762120"/>
            <a:ext cx="4254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ion of 197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xon won the re-el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as rumored that he had played dirty tricks, but it was never prov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QUES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Détente polic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Mexico depend on us f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two countries signed a peace trea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esident Nix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ard Nixon first took office in 196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ted self with trusted and loyal aides such as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.R. Halde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used his powers in many wa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unded funds for federal programs he opp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ering troops to invade Cambodia without congressional appro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ixon White Ho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xon protected self from criticis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ing up enemies list, asking FBI to spy on oppossers/discredit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ston Plan, plan to infiltrate antiwar groups by tapping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EP (Committee to Re-Elect the President) for operations to sabotage op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umbers”, stop security leaks from the p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641840" cy="6248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5562720" y="1676520"/>
            <a:ext cx="32288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tergate Crisi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ne 17, 1972 a team of “plumbers” broke into Democratic National Committee headquarters, authorized by CREEP aide G. Gordon Lid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tap phones and copy document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ep tabs on Democratic strateg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te House denied affili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ut in trial James McCord alleged their invol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334120" y="2895480"/>
            <a:ext cx="3335040" cy="3810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4143240" cy="2733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3"/>
          <a:stretch/>
        </p:blipFill>
        <p:spPr>
          <a:xfrm>
            <a:off x="609480" y="3276720"/>
            <a:ext cx="3733920" cy="27622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228600" y="60958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tch the Waterga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4"/>
          <a:stretch/>
        </p:blipFill>
        <p:spPr>
          <a:xfrm>
            <a:off x="4800600" y="152280"/>
            <a:ext cx="40384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Tap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the Senate Hearings of the Watergate break-in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 House aide Alexander Butterfield told Senate Nixon had installed tape recording system in White House since 197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xon refused Senate’s call for him to surrender the tapes, later released edited t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ly appointed Leon Jaworski called on Supreme Court, then unanimously ruled for Nixon to release tapes July 24, 197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servative Backlas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ri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ckla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Sudden reaction against liberalism of the 196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cla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king America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nted paying tax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 federal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id this because they believed that 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tted only the po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orit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MARTPenAnnotation4"/>
          <p:cNvSpPr/>
          <p:nvPr/>
        </p:nvSpPr>
        <p:spPr>
          <a:xfrm>
            <a:off x="1371600" y="2743200"/>
            <a:ext cx="1433520" cy="16200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903" h="102">
                <a:moveTo>
                  <a:pt x="0" y="6"/>
                </a:moveTo>
                <a:lnTo>
                  <a:pt x="8" y="6"/>
                </a:lnTo>
                <a:lnTo>
                  <a:pt x="16" y="9"/>
                </a:lnTo>
                <a:lnTo>
                  <a:pt x="23" y="10"/>
                </a:lnTo>
                <a:lnTo>
                  <a:pt x="47" y="11"/>
                </a:lnTo>
                <a:lnTo>
                  <a:pt x="534" y="11"/>
                </a:lnTo>
                <a:lnTo>
                  <a:pt x="544" y="10"/>
                </a:lnTo>
                <a:lnTo>
                  <a:pt x="553" y="7"/>
                </a:lnTo>
                <a:lnTo>
                  <a:pt x="579" y="6"/>
                </a:lnTo>
                <a:lnTo>
                  <a:pt x="609" y="6"/>
                </a:lnTo>
                <a:lnTo>
                  <a:pt x="890" y="6"/>
                </a:lnTo>
                <a:lnTo>
                  <a:pt x="892" y="6"/>
                </a:lnTo>
                <a:lnTo>
                  <a:pt x="892" y="7"/>
                </a:lnTo>
                <a:lnTo>
                  <a:pt x="893" y="9"/>
                </a:lnTo>
                <a:lnTo>
                  <a:pt x="894" y="9"/>
                </a:lnTo>
                <a:lnTo>
                  <a:pt x="895" y="10"/>
                </a:lnTo>
                <a:lnTo>
                  <a:pt x="898" y="11"/>
                </a:lnTo>
                <a:lnTo>
                  <a:pt x="902" y="11"/>
                </a:lnTo>
                <a:lnTo>
                  <a:pt x="894" y="11"/>
                </a:lnTo>
                <a:lnTo>
                  <a:pt x="892" y="12"/>
                </a:lnTo>
                <a:lnTo>
                  <a:pt x="887" y="14"/>
                </a:lnTo>
                <a:lnTo>
                  <a:pt x="883" y="16"/>
                </a:lnTo>
                <a:lnTo>
                  <a:pt x="879" y="17"/>
                </a:lnTo>
                <a:lnTo>
                  <a:pt x="872" y="20"/>
                </a:lnTo>
                <a:lnTo>
                  <a:pt x="866" y="23"/>
                </a:lnTo>
                <a:lnTo>
                  <a:pt x="859" y="26"/>
                </a:lnTo>
                <a:lnTo>
                  <a:pt x="851" y="28"/>
                </a:lnTo>
                <a:lnTo>
                  <a:pt x="845" y="31"/>
                </a:lnTo>
                <a:lnTo>
                  <a:pt x="838" y="32"/>
                </a:lnTo>
                <a:lnTo>
                  <a:pt x="810" y="34"/>
                </a:lnTo>
                <a:lnTo>
                  <a:pt x="717" y="34"/>
                </a:lnTo>
                <a:lnTo>
                  <a:pt x="693" y="32"/>
                </a:lnTo>
                <a:lnTo>
                  <a:pt x="679" y="31"/>
                </a:lnTo>
                <a:lnTo>
                  <a:pt x="664" y="29"/>
                </a:lnTo>
                <a:lnTo>
                  <a:pt x="613" y="20"/>
                </a:lnTo>
                <a:lnTo>
                  <a:pt x="579" y="16"/>
                </a:lnTo>
                <a:lnTo>
                  <a:pt x="562" y="14"/>
                </a:lnTo>
                <a:lnTo>
                  <a:pt x="545" y="13"/>
                </a:lnTo>
                <a:lnTo>
                  <a:pt x="529" y="13"/>
                </a:lnTo>
                <a:lnTo>
                  <a:pt x="512" y="11"/>
                </a:lnTo>
                <a:lnTo>
                  <a:pt x="496" y="9"/>
                </a:lnTo>
                <a:lnTo>
                  <a:pt x="481" y="6"/>
                </a:lnTo>
                <a:lnTo>
                  <a:pt x="455" y="3"/>
                </a:lnTo>
                <a:lnTo>
                  <a:pt x="433" y="1"/>
                </a:lnTo>
                <a:lnTo>
                  <a:pt x="413" y="0"/>
                </a:lnTo>
                <a:lnTo>
                  <a:pt x="373" y="0"/>
                </a:lnTo>
                <a:lnTo>
                  <a:pt x="290" y="0"/>
                </a:lnTo>
                <a:lnTo>
                  <a:pt x="295" y="0"/>
                </a:lnTo>
                <a:lnTo>
                  <a:pt x="306" y="3"/>
                </a:lnTo>
                <a:lnTo>
                  <a:pt x="321" y="8"/>
                </a:lnTo>
                <a:lnTo>
                  <a:pt x="328" y="10"/>
                </a:lnTo>
                <a:lnTo>
                  <a:pt x="343" y="13"/>
                </a:lnTo>
                <a:lnTo>
                  <a:pt x="353" y="15"/>
                </a:lnTo>
                <a:lnTo>
                  <a:pt x="376" y="19"/>
                </a:lnTo>
                <a:lnTo>
                  <a:pt x="389" y="22"/>
                </a:lnTo>
                <a:lnTo>
                  <a:pt x="404" y="26"/>
                </a:lnTo>
                <a:lnTo>
                  <a:pt x="419" y="30"/>
                </a:lnTo>
                <a:lnTo>
                  <a:pt x="434" y="35"/>
                </a:lnTo>
                <a:lnTo>
                  <a:pt x="465" y="46"/>
                </a:lnTo>
                <a:lnTo>
                  <a:pt x="481" y="50"/>
                </a:lnTo>
                <a:lnTo>
                  <a:pt x="500" y="55"/>
                </a:lnTo>
                <a:lnTo>
                  <a:pt x="519" y="59"/>
                </a:lnTo>
                <a:lnTo>
                  <a:pt x="539" y="63"/>
                </a:lnTo>
                <a:lnTo>
                  <a:pt x="560" y="65"/>
                </a:lnTo>
                <a:lnTo>
                  <a:pt x="581" y="68"/>
                </a:lnTo>
                <a:lnTo>
                  <a:pt x="623" y="74"/>
                </a:lnTo>
                <a:lnTo>
                  <a:pt x="644" y="78"/>
                </a:lnTo>
                <a:lnTo>
                  <a:pt x="663" y="80"/>
                </a:lnTo>
                <a:lnTo>
                  <a:pt x="681" y="81"/>
                </a:lnTo>
                <a:lnTo>
                  <a:pt x="698" y="82"/>
                </a:lnTo>
                <a:lnTo>
                  <a:pt x="729" y="83"/>
                </a:lnTo>
                <a:lnTo>
                  <a:pt x="789" y="84"/>
                </a:lnTo>
                <a:lnTo>
                  <a:pt x="817" y="84"/>
                </a:lnTo>
                <a:lnTo>
                  <a:pt x="819" y="85"/>
                </a:lnTo>
                <a:lnTo>
                  <a:pt x="823" y="87"/>
                </a:lnTo>
                <a:lnTo>
                  <a:pt x="827" y="89"/>
                </a:lnTo>
                <a:lnTo>
                  <a:pt x="834" y="90"/>
                </a:lnTo>
                <a:lnTo>
                  <a:pt x="851" y="90"/>
                </a:lnTo>
                <a:lnTo>
                  <a:pt x="851" y="91"/>
                </a:lnTo>
                <a:lnTo>
                  <a:pt x="848" y="93"/>
                </a:lnTo>
                <a:lnTo>
                  <a:pt x="842" y="94"/>
                </a:lnTo>
                <a:lnTo>
                  <a:pt x="830" y="97"/>
                </a:lnTo>
                <a:lnTo>
                  <a:pt x="820" y="99"/>
                </a:lnTo>
                <a:lnTo>
                  <a:pt x="793" y="101"/>
                </a:lnTo>
                <a:lnTo>
                  <a:pt x="751" y="101"/>
                </a:lnTo>
                <a:lnTo>
                  <a:pt x="733" y="100"/>
                </a:lnTo>
                <a:lnTo>
                  <a:pt x="723" y="98"/>
                </a:lnTo>
                <a:lnTo>
                  <a:pt x="713" y="96"/>
                </a:lnTo>
                <a:lnTo>
                  <a:pt x="702" y="93"/>
                </a:lnTo>
                <a:lnTo>
                  <a:pt x="691" y="90"/>
                </a:lnTo>
                <a:lnTo>
                  <a:pt x="679" y="88"/>
                </a:lnTo>
                <a:lnTo>
                  <a:pt x="667" y="85"/>
                </a:lnTo>
                <a:lnTo>
                  <a:pt x="655" y="83"/>
                </a:lnTo>
                <a:lnTo>
                  <a:pt x="641" y="80"/>
                </a:lnTo>
                <a:lnTo>
                  <a:pt x="613" y="74"/>
                </a:lnTo>
                <a:lnTo>
                  <a:pt x="600" y="70"/>
                </a:lnTo>
                <a:lnTo>
                  <a:pt x="587" y="65"/>
                </a:lnTo>
                <a:lnTo>
                  <a:pt x="575" y="60"/>
                </a:lnTo>
                <a:lnTo>
                  <a:pt x="562" y="57"/>
                </a:lnTo>
                <a:lnTo>
                  <a:pt x="548" y="55"/>
                </a:lnTo>
                <a:lnTo>
                  <a:pt x="534" y="54"/>
                </a:lnTo>
                <a:lnTo>
                  <a:pt x="519" y="51"/>
                </a:lnTo>
                <a:lnTo>
                  <a:pt x="504" y="49"/>
                </a:lnTo>
                <a:lnTo>
                  <a:pt x="488" y="46"/>
                </a:lnTo>
                <a:lnTo>
                  <a:pt x="470" y="43"/>
                </a:lnTo>
                <a:lnTo>
                  <a:pt x="432" y="38"/>
                </a:lnTo>
                <a:lnTo>
                  <a:pt x="372" y="32"/>
                </a:lnTo>
                <a:lnTo>
                  <a:pt x="352" y="30"/>
                </a:lnTo>
                <a:lnTo>
                  <a:pt x="333" y="27"/>
                </a:lnTo>
                <a:lnTo>
                  <a:pt x="314" y="23"/>
                </a:lnTo>
                <a:lnTo>
                  <a:pt x="298" y="21"/>
                </a:lnTo>
                <a:lnTo>
                  <a:pt x="275" y="19"/>
                </a:lnTo>
                <a:lnTo>
                  <a:pt x="250" y="17"/>
                </a:lnTo>
                <a:lnTo>
                  <a:pt x="225" y="17"/>
                </a:lnTo>
                <a:lnTo>
                  <a:pt x="183" y="17"/>
                </a:lnTo>
                <a:lnTo>
                  <a:pt x="191" y="17"/>
                </a:lnTo>
                <a:lnTo>
                  <a:pt x="193" y="18"/>
                </a:lnTo>
                <a:lnTo>
                  <a:pt x="198" y="20"/>
                </a:lnTo>
                <a:lnTo>
                  <a:pt x="207" y="21"/>
                </a:lnTo>
                <a:lnTo>
                  <a:pt x="229" y="22"/>
                </a:lnTo>
                <a:lnTo>
                  <a:pt x="252" y="23"/>
                </a:lnTo>
                <a:lnTo>
                  <a:pt x="286" y="25"/>
                </a:lnTo>
                <a:lnTo>
                  <a:pt x="304" y="26"/>
                </a:lnTo>
                <a:lnTo>
                  <a:pt x="364" y="28"/>
                </a:lnTo>
                <a:lnTo>
                  <a:pt x="428" y="32"/>
                </a:lnTo>
                <a:lnTo>
                  <a:pt x="473" y="33"/>
                </a:lnTo>
                <a:lnTo>
                  <a:pt x="540" y="33"/>
                </a:lnTo>
                <a:lnTo>
                  <a:pt x="562" y="34"/>
                </a:lnTo>
                <a:lnTo>
                  <a:pt x="644" y="38"/>
                </a:lnTo>
                <a:lnTo>
                  <a:pt x="694" y="39"/>
                </a:lnTo>
                <a:lnTo>
                  <a:pt x="713" y="39"/>
                </a:lnTo>
                <a:lnTo>
                  <a:pt x="688" y="41"/>
                </a:lnTo>
                <a:lnTo>
                  <a:pt x="663" y="43"/>
                </a:lnTo>
                <a:lnTo>
                  <a:pt x="625" y="44"/>
                </a:lnTo>
                <a:lnTo>
                  <a:pt x="65" y="45"/>
                </a:lnTo>
                <a:lnTo>
                  <a:pt x="60" y="47"/>
                </a:lnTo>
                <a:lnTo>
                  <a:pt x="54" y="49"/>
                </a:lnTo>
                <a:lnTo>
                  <a:pt x="49" y="50"/>
                </a:lnTo>
                <a:lnTo>
                  <a:pt x="48" y="51"/>
                </a:lnTo>
                <a:lnTo>
                  <a:pt x="48" y="52"/>
                </a:lnTo>
                <a:lnTo>
                  <a:pt x="49" y="53"/>
                </a:lnTo>
                <a:lnTo>
                  <a:pt x="51" y="54"/>
                </a:lnTo>
                <a:lnTo>
                  <a:pt x="59" y="56"/>
                </a:lnTo>
                <a:lnTo>
                  <a:pt x="66" y="59"/>
                </a:lnTo>
                <a:lnTo>
                  <a:pt x="87" y="62"/>
                </a:lnTo>
                <a:lnTo>
                  <a:pt x="128" y="68"/>
                </a:lnTo>
                <a:lnTo>
                  <a:pt x="155" y="71"/>
                </a:lnTo>
                <a:lnTo>
                  <a:pt x="197" y="73"/>
                </a:lnTo>
                <a:lnTo>
                  <a:pt x="230" y="76"/>
                </a:lnTo>
                <a:lnTo>
                  <a:pt x="248" y="77"/>
                </a:lnTo>
                <a:lnTo>
                  <a:pt x="287" y="78"/>
                </a:lnTo>
                <a:lnTo>
                  <a:pt x="385" y="79"/>
                </a:lnTo>
                <a:lnTo>
                  <a:pt x="500" y="79"/>
                </a:lnTo>
                <a:lnTo>
                  <a:pt x="502" y="79"/>
                </a:lnTo>
                <a:lnTo>
                  <a:pt x="503" y="80"/>
                </a:lnTo>
                <a:lnTo>
                  <a:pt x="501" y="83"/>
                </a:lnTo>
                <a:lnTo>
                  <a:pt x="499" y="85"/>
                </a:lnTo>
                <a:lnTo>
                  <a:pt x="498" y="87"/>
                </a:lnTo>
                <a:lnTo>
                  <a:pt x="496" y="88"/>
                </a:lnTo>
                <a:lnTo>
                  <a:pt x="493" y="90"/>
                </a:lnTo>
                <a:lnTo>
                  <a:pt x="487" y="93"/>
                </a:lnTo>
                <a:lnTo>
                  <a:pt x="479" y="96"/>
                </a:lnTo>
                <a:lnTo>
                  <a:pt x="470" y="98"/>
                </a:lnTo>
                <a:lnTo>
                  <a:pt x="449" y="100"/>
                </a:lnTo>
                <a:lnTo>
                  <a:pt x="426" y="101"/>
                </a:lnTo>
                <a:lnTo>
                  <a:pt x="219" y="101"/>
                </a:lnTo>
              </a:path>
            </a:pathLst>
          </a:custGeom>
          <a:noFill/>
          <a:ln w="213480">
            <a:solidFill>
              <a:srgbClr val="ffff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3581280" y="1333440"/>
            <a:ext cx="16002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mpeach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- charges of miscon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d on 3 cou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tructing justice by trying to cover up White House involvement in Waterg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olating rights by using FBI, CIA, &amp; IRS to harass cri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ying Congress by refusing to turn over the t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ul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xon first American President ever to resign from of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ald Ford (V.P.) took office, and pardoned (excused) Nixon for crimes he committed in White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 created laws: War Powers Act of 1973, Congressional Budget and Impoundment Act of 1974, &amp; the Privacy 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in order to protect constitutional law, which was threatened by Nixon White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Ques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ere two main ways that Nixon abused his powers while in offi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ere the team of people that broke into the Watergate complex call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pard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ord Follows Nixo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Richard Nixon resigned as president his VP Gerald R. Ford was left during the national cri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greatest obstacle in effort to restore public faith in the govt. was h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ability to control ec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stries began slowing down and industrial productivity had slowed and the cost of goods went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image"/>
          <p:cNvPicPr/>
          <p:nvPr/>
        </p:nvPicPr>
        <p:blipFill>
          <a:blip r:embed="rId1"/>
          <a:stretch/>
        </p:blipFill>
        <p:spPr>
          <a:xfrm>
            <a:off x="304920" y="304920"/>
            <a:ext cx="4952880" cy="3608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GERALDFORD-783038"/>
          <p:cNvPicPr/>
          <p:nvPr/>
        </p:nvPicPr>
        <p:blipFill>
          <a:blip r:embed="rId2"/>
          <a:stretch/>
        </p:blipFill>
        <p:spPr>
          <a:xfrm>
            <a:off x="4419720" y="1523880"/>
            <a:ext cx="3365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nergy Crisis Is Bor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 economic machine demanded huge amounts of o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udi Arabia imposed an embargo, a restriction of trade, on oil and shipped to Israel's allies, including the 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argo was lifted in 197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the economic effects continued through the end of the deca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eels and Steel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oil embargo had a big effect on the U.S auto and steel indust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erican cars were produced in Detroit but the oil embargo pric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creased and no one wanted anything to do with the “gas guzzler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consumer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switched to foreign car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cause of the switch American auto plants closed and 300,000 workers lost their job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esident Respo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ident Ford decided the economy could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ved by attacking inf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a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ll 6 perc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197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a result industrial production plummeted and unemployment ro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out of 10 were out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y plunged to its worst recession, an economic slowdow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rter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as elected the 39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presid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ied to get economy out of recession by cutting taxes and increasing govt. spendi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nemployment came down but inflation ros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usinesses, industries, and homeowners forced energy shortag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rters approval ratings fell 26 % as a result to the dramatic life chan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6" descr="3b52090r1"/>
          <p:cNvPicPr/>
          <p:nvPr/>
        </p:nvPicPr>
        <p:blipFill>
          <a:blip r:embed="rId1"/>
          <a:stretch/>
        </p:blipFill>
        <p:spPr>
          <a:xfrm>
            <a:off x="2362320" y="380880"/>
            <a:ext cx="42098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838080" y="0"/>
            <a:ext cx="800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oreign Poli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ter creat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oreign polic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ased on the rights and freedoms he believed should be available to all the people around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s to choose leaders in fair and honesty el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ghts to a fair 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s to worship and travel fre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s to free ex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 and soviet leaders sign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Strategic Arms Limitation Treaty (SALT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number of missiles, bombers, and nuclear warheads to each side could ha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 administra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t military aid to South and Central American dictato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amp; had an agreement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of the Panama ca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ate ratified and gave the U.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nd the neutrality of the can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mp David Accord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ace between Israel and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gypt’s President Anwar el-Sadet and Israeli Prime Minister Menachem Begin met at Camp David and made pe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16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rael's Prime Minister Begin, U.S president Carter, and Egypt’s President Sada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6" descr="begin-sadat"/>
          <p:cNvPicPr/>
          <p:nvPr/>
        </p:nvPicPr>
        <p:blipFill>
          <a:blip r:embed="rId1"/>
          <a:stretch/>
        </p:blipFill>
        <p:spPr>
          <a:xfrm>
            <a:off x="457200" y="228600"/>
            <a:ext cx="8153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ranian Hostage Crisi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vember 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n armed mob stormed the U.S embassy at the capital of Iran and seized diplomats and military pers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1980 carter authorized a raid to rescue hos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nuary 20, 198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ident Ronald Reagan’s Inauguration day the hostages were fre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Question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Camp David Acco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Nixon resigned who became presid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were the hostages of Iran freed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ixon’s New Conservatis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x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com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ident in 196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raised in a hard working middle class fam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ded Americans even fur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xon wanted to g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conserv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w Federal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a series of programs that would “Reverse the flow of power and resources from the states and communities to Washington and start power and resources flowing back … the people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SMARTPenAnnotation3"/>
          <p:cNvSpPr/>
          <p:nvPr/>
        </p:nvSpPr>
        <p:spPr>
          <a:xfrm>
            <a:off x="2819520" y="4114800"/>
            <a:ext cx="2550960" cy="169920"/>
          </a:xfrm>
          <a:custGeom>
            <a:avLst/>
            <a:gdLst>
              <a:gd name="textAreaLeft" fmla="*/ 0 w 2550960"/>
              <a:gd name="textAreaRight" fmla="*/ 2550960 w 255096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1607" h="107">
                <a:moveTo>
                  <a:pt x="37" y="0"/>
                </a:moveTo>
                <a:lnTo>
                  <a:pt x="40" y="0"/>
                </a:lnTo>
                <a:lnTo>
                  <a:pt x="54" y="2"/>
                </a:lnTo>
                <a:lnTo>
                  <a:pt x="87" y="5"/>
                </a:lnTo>
                <a:lnTo>
                  <a:pt x="112" y="8"/>
                </a:lnTo>
                <a:lnTo>
                  <a:pt x="164" y="11"/>
                </a:lnTo>
                <a:lnTo>
                  <a:pt x="191" y="13"/>
                </a:lnTo>
                <a:lnTo>
                  <a:pt x="233" y="16"/>
                </a:lnTo>
                <a:lnTo>
                  <a:pt x="292" y="16"/>
                </a:lnTo>
                <a:lnTo>
                  <a:pt x="527" y="16"/>
                </a:lnTo>
                <a:lnTo>
                  <a:pt x="539" y="13"/>
                </a:lnTo>
                <a:lnTo>
                  <a:pt x="556" y="11"/>
                </a:lnTo>
                <a:lnTo>
                  <a:pt x="599" y="11"/>
                </a:lnTo>
                <a:lnTo>
                  <a:pt x="1501" y="11"/>
                </a:lnTo>
                <a:lnTo>
                  <a:pt x="1502" y="11"/>
                </a:lnTo>
                <a:lnTo>
                  <a:pt x="1503" y="12"/>
                </a:lnTo>
                <a:lnTo>
                  <a:pt x="1504" y="14"/>
                </a:lnTo>
                <a:lnTo>
                  <a:pt x="1503" y="15"/>
                </a:lnTo>
                <a:lnTo>
                  <a:pt x="1497" y="18"/>
                </a:lnTo>
                <a:lnTo>
                  <a:pt x="1478" y="27"/>
                </a:lnTo>
                <a:lnTo>
                  <a:pt x="1469" y="32"/>
                </a:lnTo>
                <a:lnTo>
                  <a:pt x="1459" y="39"/>
                </a:lnTo>
                <a:lnTo>
                  <a:pt x="1448" y="46"/>
                </a:lnTo>
                <a:lnTo>
                  <a:pt x="1436" y="53"/>
                </a:lnTo>
                <a:lnTo>
                  <a:pt x="1423" y="58"/>
                </a:lnTo>
                <a:lnTo>
                  <a:pt x="1409" y="63"/>
                </a:lnTo>
                <a:lnTo>
                  <a:pt x="1396" y="68"/>
                </a:lnTo>
                <a:lnTo>
                  <a:pt x="1385" y="73"/>
                </a:lnTo>
                <a:lnTo>
                  <a:pt x="1374" y="79"/>
                </a:lnTo>
                <a:lnTo>
                  <a:pt x="1362" y="84"/>
                </a:lnTo>
                <a:lnTo>
                  <a:pt x="1349" y="88"/>
                </a:lnTo>
                <a:lnTo>
                  <a:pt x="1335" y="92"/>
                </a:lnTo>
                <a:lnTo>
                  <a:pt x="1322" y="96"/>
                </a:lnTo>
                <a:lnTo>
                  <a:pt x="1309" y="99"/>
                </a:lnTo>
                <a:lnTo>
                  <a:pt x="1295" y="101"/>
                </a:lnTo>
                <a:lnTo>
                  <a:pt x="1265" y="104"/>
                </a:lnTo>
                <a:lnTo>
                  <a:pt x="1232" y="105"/>
                </a:lnTo>
                <a:lnTo>
                  <a:pt x="1147" y="106"/>
                </a:lnTo>
                <a:lnTo>
                  <a:pt x="945" y="106"/>
                </a:lnTo>
                <a:lnTo>
                  <a:pt x="902" y="105"/>
                </a:lnTo>
                <a:lnTo>
                  <a:pt x="858" y="103"/>
                </a:lnTo>
                <a:lnTo>
                  <a:pt x="816" y="102"/>
                </a:lnTo>
                <a:lnTo>
                  <a:pt x="797" y="100"/>
                </a:lnTo>
                <a:lnTo>
                  <a:pt x="781" y="98"/>
                </a:lnTo>
                <a:lnTo>
                  <a:pt x="765" y="95"/>
                </a:lnTo>
                <a:lnTo>
                  <a:pt x="740" y="92"/>
                </a:lnTo>
                <a:lnTo>
                  <a:pt x="701" y="90"/>
                </a:lnTo>
                <a:lnTo>
                  <a:pt x="661" y="88"/>
                </a:lnTo>
                <a:lnTo>
                  <a:pt x="613" y="82"/>
                </a:lnTo>
                <a:lnTo>
                  <a:pt x="601" y="79"/>
                </a:lnTo>
                <a:lnTo>
                  <a:pt x="589" y="76"/>
                </a:lnTo>
                <a:lnTo>
                  <a:pt x="578" y="73"/>
                </a:lnTo>
                <a:lnTo>
                  <a:pt x="565" y="71"/>
                </a:lnTo>
                <a:lnTo>
                  <a:pt x="551" y="68"/>
                </a:lnTo>
                <a:lnTo>
                  <a:pt x="537" y="66"/>
                </a:lnTo>
                <a:lnTo>
                  <a:pt x="523" y="63"/>
                </a:lnTo>
                <a:lnTo>
                  <a:pt x="494" y="57"/>
                </a:lnTo>
                <a:lnTo>
                  <a:pt x="479" y="54"/>
                </a:lnTo>
                <a:lnTo>
                  <a:pt x="464" y="51"/>
                </a:lnTo>
                <a:lnTo>
                  <a:pt x="434" y="47"/>
                </a:lnTo>
                <a:lnTo>
                  <a:pt x="378" y="39"/>
                </a:lnTo>
                <a:lnTo>
                  <a:pt x="353" y="36"/>
                </a:lnTo>
                <a:lnTo>
                  <a:pt x="305" y="34"/>
                </a:lnTo>
                <a:lnTo>
                  <a:pt x="258" y="33"/>
                </a:lnTo>
                <a:lnTo>
                  <a:pt x="119" y="33"/>
                </a:lnTo>
                <a:lnTo>
                  <a:pt x="117" y="34"/>
                </a:lnTo>
                <a:lnTo>
                  <a:pt x="114" y="36"/>
                </a:lnTo>
                <a:lnTo>
                  <a:pt x="108" y="38"/>
                </a:lnTo>
                <a:lnTo>
                  <a:pt x="102" y="39"/>
                </a:lnTo>
                <a:lnTo>
                  <a:pt x="95" y="42"/>
                </a:lnTo>
                <a:lnTo>
                  <a:pt x="87" y="45"/>
                </a:lnTo>
                <a:lnTo>
                  <a:pt x="80" y="48"/>
                </a:lnTo>
                <a:lnTo>
                  <a:pt x="73" y="50"/>
                </a:lnTo>
                <a:lnTo>
                  <a:pt x="69" y="53"/>
                </a:lnTo>
                <a:lnTo>
                  <a:pt x="65" y="54"/>
                </a:lnTo>
                <a:lnTo>
                  <a:pt x="59" y="55"/>
                </a:lnTo>
                <a:lnTo>
                  <a:pt x="57" y="55"/>
                </a:lnTo>
                <a:lnTo>
                  <a:pt x="56" y="56"/>
                </a:lnTo>
                <a:lnTo>
                  <a:pt x="52" y="59"/>
                </a:lnTo>
                <a:lnTo>
                  <a:pt x="48" y="60"/>
                </a:lnTo>
                <a:lnTo>
                  <a:pt x="46" y="61"/>
                </a:lnTo>
                <a:lnTo>
                  <a:pt x="42" y="63"/>
                </a:lnTo>
                <a:lnTo>
                  <a:pt x="41" y="64"/>
                </a:lnTo>
                <a:lnTo>
                  <a:pt x="37" y="66"/>
                </a:lnTo>
                <a:lnTo>
                  <a:pt x="35" y="66"/>
                </a:lnTo>
                <a:lnTo>
                  <a:pt x="31" y="68"/>
                </a:lnTo>
                <a:lnTo>
                  <a:pt x="29" y="70"/>
                </a:lnTo>
                <a:lnTo>
                  <a:pt x="27" y="72"/>
                </a:lnTo>
                <a:lnTo>
                  <a:pt x="21" y="78"/>
                </a:lnTo>
                <a:lnTo>
                  <a:pt x="18" y="80"/>
                </a:lnTo>
                <a:lnTo>
                  <a:pt x="13" y="82"/>
                </a:lnTo>
                <a:lnTo>
                  <a:pt x="12" y="83"/>
                </a:lnTo>
                <a:lnTo>
                  <a:pt x="11" y="85"/>
                </a:lnTo>
                <a:lnTo>
                  <a:pt x="10" y="86"/>
                </a:lnTo>
                <a:lnTo>
                  <a:pt x="9" y="87"/>
                </a:lnTo>
                <a:lnTo>
                  <a:pt x="8" y="88"/>
                </a:lnTo>
                <a:lnTo>
                  <a:pt x="6" y="89"/>
                </a:lnTo>
                <a:lnTo>
                  <a:pt x="5" y="89"/>
                </a:lnTo>
                <a:lnTo>
                  <a:pt x="4" y="91"/>
                </a:lnTo>
                <a:lnTo>
                  <a:pt x="4" y="92"/>
                </a:lnTo>
                <a:lnTo>
                  <a:pt x="3" y="93"/>
                </a:lnTo>
                <a:lnTo>
                  <a:pt x="2" y="94"/>
                </a:lnTo>
                <a:lnTo>
                  <a:pt x="0" y="94"/>
                </a:lnTo>
                <a:lnTo>
                  <a:pt x="1" y="95"/>
                </a:lnTo>
                <a:lnTo>
                  <a:pt x="7" y="96"/>
                </a:lnTo>
                <a:lnTo>
                  <a:pt x="13" y="98"/>
                </a:lnTo>
                <a:lnTo>
                  <a:pt x="27" y="101"/>
                </a:lnTo>
                <a:lnTo>
                  <a:pt x="46" y="104"/>
                </a:lnTo>
                <a:lnTo>
                  <a:pt x="94" y="106"/>
                </a:lnTo>
                <a:lnTo>
                  <a:pt x="781" y="106"/>
                </a:lnTo>
                <a:lnTo>
                  <a:pt x="786" y="105"/>
                </a:lnTo>
                <a:lnTo>
                  <a:pt x="793" y="103"/>
                </a:lnTo>
                <a:lnTo>
                  <a:pt x="818" y="101"/>
                </a:lnTo>
                <a:lnTo>
                  <a:pt x="837" y="101"/>
                </a:lnTo>
                <a:lnTo>
                  <a:pt x="841" y="100"/>
                </a:lnTo>
                <a:lnTo>
                  <a:pt x="850" y="97"/>
                </a:lnTo>
                <a:lnTo>
                  <a:pt x="865" y="95"/>
                </a:lnTo>
                <a:lnTo>
                  <a:pt x="893" y="95"/>
                </a:lnTo>
                <a:lnTo>
                  <a:pt x="899" y="93"/>
                </a:lnTo>
                <a:lnTo>
                  <a:pt x="905" y="91"/>
                </a:lnTo>
                <a:lnTo>
                  <a:pt x="913" y="87"/>
                </a:lnTo>
                <a:lnTo>
                  <a:pt x="918" y="85"/>
                </a:lnTo>
                <a:lnTo>
                  <a:pt x="927" y="84"/>
                </a:lnTo>
                <a:lnTo>
                  <a:pt x="930" y="84"/>
                </a:lnTo>
                <a:lnTo>
                  <a:pt x="937" y="82"/>
                </a:lnTo>
                <a:lnTo>
                  <a:pt x="941" y="81"/>
                </a:lnTo>
                <a:lnTo>
                  <a:pt x="955" y="79"/>
                </a:lnTo>
                <a:lnTo>
                  <a:pt x="1002" y="78"/>
                </a:lnTo>
                <a:lnTo>
                  <a:pt x="1540" y="78"/>
                </a:lnTo>
                <a:lnTo>
                  <a:pt x="1542" y="78"/>
                </a:lnTo>
                <a:lnTo>
                  <a:pt x="1548" y="74"/>
                </a:lnTo>
                <a:lnTo>
                  <a:pt x="1552" y="73"/>
                </a:lnTo>
                <a:lnTo>
                  <a:pt x="1557" y="73"/>
                </a:lnTo>
                <a:lnTo>
                  <a:pt x="1559" y="72"/>
                </a:lnTo>
                <a:lnTo>
                  <a:pt x="1563" y="70"/>
                </a:lnTo>
                <a:lnTo>
                  <a:pt x="1567" y="68"/>
                </a:lnTo>
                <a:lnTo>
                  <a:pt x="1572" y="67"/>
                </a:lnTo>
                <a:lnTo>
                  <a:pt x="1574" y="67"/>
                </a:lnTo>
                <a:lnTo>
                  <a:pt x="1576" y="67"/>
                </a:lnTo>
                <a:lnTo>
                  <a:pt x="1576" y="65"/>
                </a:lnTo>
                <a:lnTo>
                  <a:pt x="1577" y="64"/>
                </a:lnTo>
                <a:lnTo>
                  <a:pt x="1578" y="63"/>
                </a:lnTo>
                <a:lnTo>
                  <a:pt x="1579" y="63"/>
                </a:lnTo>
                <a:lnTo>
                  <a:pt x="1582" y="62"/>
                </a:lnTo>
                <a:lnTo>
                  <a:pt x="1586" y="62"/>
                </a:lnTo>
                <a:lnTo>
                  <a:pt x="1587" y="61"/>
                </a:lnTo>
                <a:lnTo>
                  <a:pt x="1588" y="60"/>
                </a:lnTo>
                <a:lnTo>
                  <a:pt x="1588" y="58"/>
                </a:lnTo>
                <a:lnTo>
                  <a:pt x="1589" y="58"/>
                </a:lnTo>
                <a:lnTo>
                  <a:pt x="1590" y="57"/>
                </a:lnTo>
                <a:lnTo>
                  <a:pt x="1592" y="57"/>
                </a:lnTo>
                <a:lnTo>
                  <a:pt x="1595" y="54"/>
                </a:lnTo>
                <a:lnTo>
                  <a:pt x="1597" y="53"/>
                </a:lnTo>
                <a:lnTo>
                  <a:pt x="1598" y="51"/>
                </a:lnTo>
                <a:lnTo>
                  <a:pt x="1599" y="50"/>
                </a:lnTo>
                <a:lnTo>
                  <a:pt x="1599" y="48"/>
                </a:lnTo>
                <a:lnTo>
                  <a:pt x="1600" y="47"/>
                </a:lnTo>
                <a:lnTo>
                  <a:pt x="1602" y="46"/>
                </a:lnTo>
                <a:lnTo>
                  <a:pt x="1603" y="46"/>
                </a:lnTo>
                <a:lnTo>
                  <a:pt x="1604" y="45"/>
                </a:lnTo>
                <a:lnTo>
                  <a:pt x="1605" y="43"/>
                </a:lnTo>
                <a:lnTo>
                  <a:pt x="1606" y="40"/>
                </a:lnTo>
                <a:lnTo>
                  <a:pt x="1606" y="39"/>
                </a:lnTo>
                <a:lnTo>
                  <a:pt x="1606" y="37"/>
                </a:lnTo>
                <a:lnTo>
                  <a:pt x="1606" y="35"/>
                </a:lnTo>
                <a:lnTo>
                  <a:pt x="1606" y="31"/>
                </a:lnTo>
                <a:lnTo>
                  <a:pt x="1605" y="29"/>
                </a:lnTo>
                <a:lnTo>
                  <a:pt x="1604" y="28"/>
                </a:lnTo>
                <a:lnTo>
                  <a:pt x="1603" y="26"/>
                </a:lnTo>
                <a:lnTo>
                  <a:pt x="1602" y="24"/>
                </a:lnTo>
                <a:lnTo>
                  <a:pt x="1600" y="24"/>
                </a:lnTo>
                <a:lnTo>
                  <a:pt x="1597" y="23"/>
                </a:lnTo>
                <a:lnTo>
                  <a:pt x="1576" y="22"/>
                </a:lnTo>
                <a:lnTo>
                  <a:pt x="1575" y="21"/>
                </a:lnTo>
                <a:lnTo>
                  <a:pt x="1574" y="20"/>
                </a:lnTo>
                <a:lnTo>
                  <a:pt x="1573" y="19"/>
                </a:lnTo>
                <a:lnTo>
                  <a:pt x="1572" y="18"/>
                </a:lnTo>
                <a:lnTo>
                  <a:pt x="1571" y="18"/>
                </a:lnTo>
                <a:lnTo>
                  <a:pt x="1568" y="17"/>
                </a:lnTo>
                <a:lnTo>
                  <a:pt x="1561" y="16"/>
                </a:lnTo>
              </a:path>
            </a:pathLst>
          </a:custGeom>
          <a:noFill/>
          <a:ln w="213480">
            <a:solidFill>
              <a:srgbClr val="ffff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0" y="1109520"/>
            <a:ext cx="914400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(cont.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venue sharing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gram which the federal government returns some of its tax money to local gover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assistance plan (FA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as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mpt to stream line the massive federal agencies regulations &amp; casework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as also a  simple pl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ed to give poor families a minimum annual income and then let them take responsibility for themselv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MARTPenAnnotation0"/>
          <p:cNvSpPr/>
          <p:nvPr/>
        </p:nvSpPr>
        <p:spPr>
          <a:xfrm>
            <a:off x="1295280" y="2133720"/>
            <a:ext cx="2770200" cy="179280"/>
          </a:xfrm>
          <a:custGeom>
            <a:avLst/>
            <a:gdLst>
              <a:gd name="textAreaLeft" fmla="*/ 0 w 2770200"/>
              <a:gd name="textAreaRight" fmla="*/ 2770200 w 277020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45" h="113">
                <a:moveTo>
                  <a:pt x="23" y="11"/>
                </a:moveTo>
                <a:lnTo>
                  <a:pt x="99" y="11"/>
                </a:lnTo>
                <a:lnTo>
                  <a:pt x="107" y="9"/>
                </a:lnTo>
                <a:lnTo>
                  <a:pt x="114" y="7"/>
                </a:lnTo>
                <a:lnTo>
                  <a:pt x="125" y="5"/>
                </a:lnTo>
                <a:lnTo>
                  <a:pt x="130" y="3"/>
                </a:lnTo>
                <a:lnTo>
                  <a:pt x="136" y="1"/>
                </a:lnTo>
                <a:lnTo>
                  <a:pt x="188" y="0"/>
                </a:lnTo>
                <a:lnTo>
                  <a:pt x="1667" y="0"/>
                </a:lnTo>
                <a:lnTo>
                  <a:pt x="1669" y="1"/>
                </a:lnTo>
                <a:lnTo>
                  <a:pt x="1675" y="4"/>
                </a:lnTo>
                <a:lnTo>
                  <a:pt x="1684" y="7"/>
                </a:lnTo>
                <a:lnTo>
                  <a:pt x="1690" y="10"/>
                </a:lnTo>
                <a:lnTo>
                  <a:pt x="1697" y="13"/>
                </a:lnTo>
                <a:lnTo>
                  <a:pt x="1700" y="15"/>
                </a:lnTo>
                <a:lnTo>
                  <a:pt x="1703" y="17"/>
                </a:lnTo>
                <a:lnTo>
                  <a:pt x="1705" y="19"/>
                </a:lnTo>
                <a:lnTo>
                  <a:pt x="1710" y="21"/>
                </a:lnTo>
                <a:lnTo>
                  <a:pt x="1716" y="22"/>
                </a:lnTo>
                <a:lnTo>
                  <a:pt x="1718" y="22"/>
                </a:lnTo>
                <a:lnTo>
                  <a:pt x="1719" y="23"/>
                </a:lnTo>
                <a:lnTo>
                  <a:pt x="1723" y="25"/>
                </a:lnTo>
                <a:lnTo>
                  <a:pt x="1727" y="28"/>
                </a:lnTo>
                <a:lnTo>
                  <a:pt x="1729" y="30"/>
                </a:lnTo>
                <a:lnTo>
                  <a:pt x="1731" y="31"/>
                </a:lnTo>
                <a:lnTo>
                  <a:pt x="1734" y="33"/>
                </a:lnTo>
                <a:lnTo>
                  <a:pt x="1736" y="34"/>
                </a:lnTo>
                <a:lnTo>
                  <a:pt x="1737" y="35"/>
                </a:lnTo>
                <a:lnTo>
                  <a:pt x="1737" y="36"/>
                </a:lnTo>
                <a:lnTo>
                  <a:pt x="1738" y="37"/>
                </a:lnTo>
                <a:lnTo>
                  <a:pt x="1739" y="38"/>
                </a:lnTo>
                <a:lnTo>
                  <a:pt x="1741" y="38"/>
                </a:lnTo>
                <a:lnTo>
                  <a:pt x="1742" y="39"/>
                </a:lnTo>
                <a:lnTo>
                  <a:pt x="1743" y="41"/>
                </a:lnTo>
                <a:lnTo>
                  <a:pt x="1743" y="44"/>
                </a:lnTo>
                <a:lnTo>
                  <a:pt x="1744" y="47"/>
                </a:lnTo>
                <a:lnTo>
                  <a:pt x="1743" y="49"/>
                </a:lnTo>
                <a:lnTo>
                  <a:pt x="1742" y="51"/>
                </a:lnTo>
                <a:lnTo>
                  <a:pt x="1741" y="52"/>
                </a:lnTo>
                <a:lnTo>
                  <a:pt x="1739" y="54"/>
                </a:lnTo>
                <a:lnTo>
                  <a:pt x="1738" y="54"/>
                </a:lnTo>
                <a:lnTo>
                  <a:pt x="1736" y="55"/>
                </a:lnTo>
                <a:lnTo>
                  <a:pt x="1735" y="56"/>
                </a:lnTo>
                <a:lnTo>
                  <a:pt x="1734" y="57"/>
                </a:lnTo>
                <a:lnTo>
                  <a:pt x="1734" y="59"/>
                </a:lnTo>
                <a:lnTo>
                  <a:pt x="1732" y="60"/>
                </a:lnTo>
                <a:lnTo>
                  <a:pt x="1727" y="61"/>
                </a:lnTo>
                <a:lnTo>
                  <a:pt x="1720" y="61"/>
                </a:lnTo>
                <a:lnTo>
                  <a:pt x="1719" y="62"/>
                </a:lnTo>
                <a:lnTo>
                  <a:pt x="1718" y="63"/>
                </a:lnTo>
                <a:lnTo>
                  <a:pt x="1717" y="65"/>
                </a:lnTo>
                <a:lnTo>
                  <a:pt x="1716" y="66"/>
                </a:lnTo>
                <a:lnTo>
                  <a:pt x="1715" y="66"/>
                </a:lnTo>
                <a:lnTo>
                  <a:pt x="1712" y="67"/>
                </a:lnTo>
                <a:lnTo>
                  <a:pt x="1708" y="67"/>
                </a:lnTo>
                <a:lnTo>
                  <a:pt x="1707" y="68"/>
                </a:lnTo>
                <a:lnTo>
                  <a:pt x="1706" y="69"/>
                </a:lnTo>
                <a:lnTo>
                  <a:pt x="1706" y="70"/>
                </a:lnTo>
                <a:lnTo>
                  <a:pt x="1705" y="71"/>
                </a:lnTo>
                <a:lnTo>
                  <a:pt x="1703" y="72"/>
                </a:lnTo>
                <a:lnTo>
                  <a:pt x="1700" y="72"/>
                </a:lnTo>
                <a:lnTo>
                  <a:pt x="1697" y="73"/>
                </a:lnTo>
                <a:lnTo>
                  <a:pt x="1696" y="73"/>
                </a:lnTo>
                <a:lnTo>
                  <a:pt x="1695" y="75"/>
                </a:lnTo>
                <a:lnTo>
                  <a:pt x="1694" y="76"/>
                </a:lnTo>
                <a:lnTo>
                  <a:pt x="1693" y="77"/>
                </a:lnTo>
                <a:lnTo>
                  <a:pt x="1692" y="77"/>
                </a:lnTo>
                <a:lnTo>
                  <a:pt x="1689" y="78"/>
                </a:lnTo>
                <a:lnTo>
                  <a:pt x="1686" y="78"/>
                </a:lnTo>
                <a:lnTo>
                  <a:pt x="1684" y="79"/>
                </a:lnTo>
                <a:lnTo>
                  <a:pt x="1684" y="80"/>
                </a:lnTo>
                <a:lnTo>
                  <a:pt x="1683" y="82"/>
                </a:lnTo>
                <a:lnTo>
                  <a:pt x="1682" y="82"/>
                </a:lnTo>
                <a:lnTo>
                  <a:pt x="1681" y="83"/>
                </a:lnTo>
                <a:lnTo>
                  <a:pt x="1678" y="84"/>
                </a:lnTo>
                <a:lnTo>
                  <a:pt x="1674" y="84"/>
                </a:lnTo>
                <a:lnTo>
                  <a:pt x="1673" y="85"/>
                </a:lnTo>
                <a:lnTo>
                  <a:pt x="1672" y="86"/>
                </a:lnTo>
                <a:lnTo>
                  <a:pt x="1672" y="87"/>
                </a:lnTo>
                <a:lnTo>
                  <a:pt x="1671" y="88"/>
                </a:lnTo>
                <a:lnTo>
                  <a:pt x="1670" y="89"/>
                </a:lnTo>
                <a:lnTo>
                  <a:pt x="1668" y="89"/>
                </a:lnTo>
                <a:lnTo>
                  <a:pt x="1665" y="91"/>
                </a:lnTo>
                <a:lnTo>
                  <a:pt x="1663" y="93"/>
                </a:lnTo>
                <a:lnTo>
                  <a:pt x="1661" y="94"/>
                </a:lnTo>
                <a:lnTo>
                  <a:pt x="1658" y="95"/>
                </a:lnTo>
                <a:lnTo>
                  <a:pt x="1656" y="96"/>
                </a:lnTo>
                <a:lnTo>
                  <a:pt x="1656" y="97"/>
                </a:lnTo>
                <a:lnTo>
                  <a:pt x="1655" y="98"/>
                </a:lnTo>
                <a:lnTo>
                  <a:pt x="1654" y="99"/>
                </a:lnTo>
                <a:lnTo>
                  <a:pt x="1653" y="100"/>
                </a:lnTo>
                <a:lnTo>
                  <a:pt x="1650" y="101"/>
                </a:lnTo>
                <a:lnTo>
                  <a:pt x="1646" y="101"/>
                </a:lnTo>
                <a:lnTo>
                  <a:pt x="1645" y="102"/>
                </a:lnTo>
                <a:lnTo>
                  <a:pt x="1644" y="103"/>
                </a:lnTo>
                <a:lnTo>
                  <a:pt x="1644" y="104"/>
                </a:lnTo>
                <a:lnTo>
                  <a:pt x="1643" y="105"/>
                </a:lnTo>
                <a:lnTo>
                  <a:pt x="1641" y="106"/>
                </a:lnTo>
                <a:lnTo>
                  <a:pt x="1638" y="106"/>
                </a:lnTo>
                <a:lnTo>
                  <a:pt x="1624" y="107"/>
                </a:lnTo>
                <a:lnTo>
                  <a:pt x="1623" y="107"/>
                </a:lnTo>
                <a:lnTo>
                  <a:pt x="1622" y="108"/>
                </a:lnTo>
                <a:lnTo>
                  <a:pt x="1621" y="110"/>
                </a:lnTo>
                <a:lnTo>
                  <a:pt x="1620" y="111"/>
                </a:lnTo>
                <a:lnTo>
                  <a:pt x="1619" y="111"/>
                </a:lnTo>
                <a:lnTo>
                  <a:pt x="1616" y="112"/>
                </a:lnTo>
                <a:lnTo>
                  <a:pt x="1562" y="112"/>
                </a:lnTo>
                <a:lnTo>
                  <a:pt x="1520" y="112"/>
                </a:lnTo>
                <a:lnTo>
                  <a:pt x="1513" y="111"/>
                </a:lnTo>
                <a:lnTo>
                  <a:pt x="1506" y="108"/>
                </a:lnTo>
                <a:lnTo>
                  <a:pt x="1498" y="105"/>
                </a:lnTo>
                <a:lnTo>
                  <a:pt x="1487" y="99"/>
                </a:lnTo>
                <a:lnTo>
                  <a:pt x="1481" y="97"/>
                </a:lnTo>
                <a:lnTo>
                  <a:pt x="1470" y="95"/>
                </a:lnTo>
                <a:lnTo>
                  <a:pt x="1465" y="92"/>
                </a:lnTo>
                <a:lnTo>
                  <a:pt x="1461" y="91"/>
                </a:lnTo>
                <a:lnTo>
                  <a:pt x="1406" y="90"/>
                </a:lnTo>
                <a:lnTo>
                  <a:pt x="1337" y="90"/>
                </a:lnTo>
                <a:lnTo>
                  <a:pt x="1325" y="87"/>
                </a:lnTo>
                <a:lnTo>
                  <a:pt x="1314" y="85"/>
                </a:lnTo>
                <a:lnTo>
                  <a:pt x="1261" y="84"/>
                </a:lnTo>
                <a:lnTo>
                  <a:pt x="1039" y="84"/>
                </a:lnTo>
                <a:lnTo>
                  <a:pt x="1030" y="83"/>
                </a:lnTo>
                <a:lnTo>
                  <a:pt x="1020" y="80"/>
                </a:lnTo>
                <a:lnTo>
                  <a:pt x="998" y="79"/>
                </a:lnTo>
                <a:lnTo>
                  <a:pt x="502" y="79"/>
                </a:lnTo>
                <a:lnTo>
                  <a:pt x="499" y="78"/>
                </a:lnTo>
                <a:lnTo>
                  <a:pt x="492" y="75"/>
                </a:lnTo>
                <a:lnTo>
                  <a:pt x="486" y="74"/>
                </a:lnTo>
                <a:lnTo>
                  <a:pt x="434" y="73"/>
                </a:lnTo>
                <a:lnTo>
                  <a:pt x="0" y="73"/>
                </a:lnTo>
              </a:path>
            </a:pathLst>
          </a:custGeom>
          <a:noFill/>
          <a:ln w="213480">
            <a:solidFill>
              <a:srgbClr val="ffff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5105520" y="3200400"/>
            <a:ext cx="796680" cy="117360"/>
            <a:chOff x="5105520" y="3200400"/>
            <a:chExt cx="796680" cy="117360"/>
          </a:xfrm>
        </p:grpSpPr>
        <p:sp>
          <p:nvSpPr>
            <p:cNvPr id="124" name="SMARTPenAnnotation1"/>
            <p:cNvSpPr/>
            <p:nvPr/>
          </p:nvSpPr>
          <p:spPr>
            <a:xfrm>
              <a:off x="5105520" y="3200400"/>
              <a:ext cx="796680" cy="936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02" h="6">
                  <a:moveTo>
                    <a:pt x="0" y="0"/>
                  </a:moveTo>
                  <a:lnTo>
                    <a:pt x="247" y="0"/>
                  </a:lnTo>
                  <a:lnTo>
                    <a:pt x="253" y="0"/>
                  </a:lnTo>
                  <a:lnTo>
                    <a:pt x="260" y="1"/>
                  </a:lnTo>
                  <a:lnTo>
                    <a:pt x="267" y="2"/>
                  </a:lnTo>
                  <a:lnTo>
                    <a:pt x="273" y="3"/>
                  </a:lnTo>
                  <a:lnTo>
                    <a:pt x="278" y="4"/>
                  </a:lnTo>
                  <a:lnTo>
                    <a:pt x="283" y="4"/>
                  </a:lnTo>
                  <a:lnTo>
                    <a:pt x="287" y="5"/>
                  </a:lnTo>
                  <a:lnTo>
                    <a:pt x="296" y="5"/>
                  </a:lnTo>
                  <a:lnTo>
                    <a:pt x="313" y="5"/>
                  </a:lnTo>
                  <a:lnTo>
                    <a:pt x="501" y="5"/>
                  </a:lnTo>
                </a:path>
              </a:pathLst>
            </a:custGeom>
            <a:noFill/>
            <a:ln w="213480">
              <a:solidFill>
                <a:srgbClr val="ffff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SMARTPenAnnotation2"/>
            <p:cNvSpPr/>
            <p:nvPr/>
          </p:nvSpPr>
          <p:spPr>
            <a:xfrm>
              <a:off x="5114880" y="3306600"/>
              <a:ext cx="705960" cy="11160"/>
            </a:xfrm>
            <a:custGeom>
              <a:avLst/>
              <a:gdLst>
                <a:gd name="textAreaLeft" fmla="*/ 0 w 705960"/>
                <a:gd name="textAreaRight" fmla="*/ 706320 w 7059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45" h="7">
                  <a:moveTo>
                    <a:pt x="0" y="6"/>
                  </a:moveTo>
                  <a:lnTo>
                    <a:pt x="239" y="6"/>
                  </a:lnTo>
                  <a:lnTo>
                    <a:pt x="243" y="5"/>
                  </a:lnTo>
                  <a:lnTo>
                    <a:pt x="247" y="4"/>
                  </a:lnTo>
                  <a:lnTo>
                    <a:pt x="251" y="3"/>
                  </a:lnTo>
                  <a:lnTo>
                    <a:pt x="254" y="2"/>
                  </a:lnTo>
                  <a:lnTo>
                    <a:pt x="256" y="1"/>
                  </a:lnTo>
                  <a:lnTo>
                    <a:pt x="259" y="1"/>
                  </a:lnTo>
                  <a:lnTo>
                    <a:pt x="262" y="1"/>
                  </a:lnTo>
                  <a:lnTo>
                    <a:pt x="265" y="0"/>
                  </a:lnTo>
                  <a:lnTo>
                    <a:pt x="274" y="0"/>
                  </a:lnTo>
                  <a:lnTo>
                    <a:pt x="290" y="0"/>
                  </a:lnTo>
                  <a:lnTo>
                    <a:pt x="444" y="0"/>
                  </a:lnTo>
                </a:path>
              </a:pathLst>
            </a:custGeom>
            <a:noFill/>
            <a:ln w="213480">
              <a:solidFill>
                <a:srgbClr val="ffff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7257960" y="0"/>
            <a:ext cx="18860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ppealing to Sout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69 FBI targeted the Black Panther party, police killed an estimated 28 Pan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ndreds more were arres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xon had adopted a ‘southern strategy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thern Strategy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lan designed to appeal directly to southern white conserva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erved as president untill 197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MARTPenAnnotation0"/>
          <p:cNvSpPr/>
          <p:nvPr/>
        </p:nvSpPr>
        <p:spPr>
          <a:xfrm>
            <a:off x="1600200" y="457200"/>
            <a:ext cx="914400" cy="1219320"/>
          </a:xfrm>
          <a:custGeom>
            <a:avLst/>
            <a:gdLst>
              <a:gd name="textAreaLeft" fmla="*/ 0 w 914400"/>
              <a:gd name="textAreaRight" fmla="*/ 914760 w 9144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0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838080" y="0"/>
            <a:ext cx="800748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06:56:45Z</dcterms:created>
  <dc:creator>Anthony</dc:creator>
  <dc:description/>
  <dc:language>en-US</dc:language>
  <cp:lastModifiedBy>ASD</cp:lastModifiedBy>
  <dcterms:modified xsi:type="dcterms:W3CDTF">2010-07-07T21:01:13Z</dcterms:modified>
  <cp:revision>24</cp:revision>
  <dc:subject/>
  <dc:title>President Nixon</dc:title>
</cp:coreProperties>
</file>